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DBA-FF28-4196-9100-79668728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681-921F-4F91-900B-5B9C134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380-CAF1-4B0D-9B97-4580106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65F-E2A1-4F28-94A6-1DFE0458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0F0-73BE-4C7F-8393-A168B119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D72-B677-4792-8AB6-FC8E8A3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19A-5C33-4210-AA02-1C663EF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B1C-54AA-477D-9B5E-5ADF29D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06C-6EDF-4365-8BC8-14C57B1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2B0-C18F-4FAD-9BE6-1B2C46A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D0D-D033-486B-B8A4-CA8FA7F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BDA-E0A5-415A-9F83-52136FE8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0BA-6439-4EBD-ADAC-35D68DED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-1295280" y="666720"/>
            <a:ext cx="1054872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Creating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a Free Wiki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for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ype in the web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spaces.com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ddress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4220" t="0" r="0" b="37501"/>
          <a:stretch/>
        </p:blipFill>
        <p:spPr>
          <a:xfrm>
            <a:off x="114300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5562720" y="23623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467" t="0" r="9376" b="22917"/>
          <a:stretch/>
        </p:blipFill>
        <p:spPr>
          <a:xfrm>
            <a:off x="380880" y="380880"/>
            <a:ext cx="8305920" cy="563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 flipV="1">
            <a:off x="2362320" y="335268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467" t="0" r="9376" b="32293"/>
          <a:stretch/>
        </p:blipFill>
        <p:spPr>
          <a:xfrm>
            <a:off x="304920" y="457200"/>
            <a:ext cx="830556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029200" y="464796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467" t="28124" r="11721" b="0"/>
          <a:stretch/>
        </p:blipFill>
        <p:spPr>
          <a:xfrm>
            <a:off x="457200" y="45720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342864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4688" b="7294"/>
          <a:stretch/>
        </p:blipFill>
        <p:spPr>
          <a:xfrm>
            <a:off x="0" y="76320"/>
            <a:ext cx="929628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3124080" y="579132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467" t="0" r="4688" b="31250"/>
          <a:stretch/>
        </p:blipFill>
        <p:spPr>
          <a:xfrm>
            <a:off x="380880" y="60948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688" t="25004" r="28126" b="31250"/>
          <a:stretch/>
        </p:blipFill>
        <p:spPr>
          <a:xfrm>
            <a:off x="304920" y="1157400"/>
            <a:ext cx="8381880" cy="40939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058760" y="3290760"/>
            <a:ext cx="2065320" cy="2514240"/>
            <a:chOff x="1058760" y="3290760"/>
            <a:chExt cx="2065320" cy="2514240"/>
          </a:xfrm>
        </p:grpSpPr>
        <p:sp>
          <p:nvSpPr>
            <p:cNvPr id="59" name=""/>
            <p:cNvSpPr/>
            <p:nvPr/>
          </p:nvSpPr>
          <p:spPr>
            <a:xfrm flipV="1">
              <a:off x="1058760" y="3290760"/>
              <a:ext cx="191304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066680" y="3747600"/>
              <a:ext cx="198144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066680" y="4204800"/>
              <a:ext cx="20574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9920" y="5348160"/>
            <a:ext cx="24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your Wiki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534816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ytelling.wikispaces.c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5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55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62625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* Make sure you click “Educational Use” – this will eliminate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76320"/>
            <a:ext cx="8763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elect either protected, or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otected will allow you to accept who may belong to th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vate will only be used by those who you inv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55:56Z</dcterms:created>
  <dc:creator>smartboard</dc:creator>
  <dc:description/>
  <dc:language>en-US</dc:language>
  <cp:lastModifiedBy>smartboard</cp:lastModifiedBy>
  <dcterms:modified xsi:type="dcterms:W3CDTF">2009-08-05T15:13:57Z</dcterms:modified>
  <cp:revision>23</cp:revision>
  <dc:subject/>
  <dc:title>Creating a Free Wiki for Teachers</dc:title>
</cp:coreProperties>
</file>